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F60-215A-45B3-B82C-9217D862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9CE-EF0F-441F-899E-81FB07A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3A69-C262-4C3C-8606-E32307D6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E36A4-9C5B-4D1A-A833-E47AD25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382C-88B4-4C79-8E26-DA67A1A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22C7-7E64-471C-96A4-A1A8212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6EE5B-A732-4A1A-8F53-B19AD96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A3FB-8153-48EA-807D-FDC8DFF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29AF-60B0-41CD-A108-1B34CF9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EFAAE-ED48-41B8-8189-DFA370D0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B9825-D210-4E8E-A888-FBC23DBA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A99AA-33F7-499F-A00F-BE6B16BD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A72-CC5C-4BAF-862A-0C249156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7BF1F-78B9-4C91-B153-D490EB1F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ADE6-44E0-4DB7-853E-0A586AC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09B0A-1919-4940-A7A3-90BBFB3F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12EFC-EC87-4471-B10C-F9DFF651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F077-E73B-4DC4-BC88-1819EE2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C959C-922A-461A-9343-12527F7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4C1D9-CFE5-4ECB-85CC-1A44239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8F8EF-ADB8-4E47-BCFD-F12B5ED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B09F-9744-4F42-A62C-6ABCA993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C4A9-FC2E-4D0D-BECC-29B84AB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8F4-0975-4B02-BD52-79005AAC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C6642-6C47-4A83-968F-43BCA386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33B9-A1D4-4286-B3B3-72C9E0B5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3D028-50E5-426C-942B-EE2B451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29956-8529-41AD-AB39-54FCE8D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8BD87-4F43-4D6E-9C34-C43A67C9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3DDFE-FC87-481F-A6AA-81D8B0A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7BD0D-C644-43E6-9EB4-50D5DB5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056AC-476D-4CCD-99B3-48D620D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DB66C-C1A9-404B-8199-F703D97C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5B52A-1B1A-4C13-88D5-0EF7791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4B1-4A72-4AB6-B2BF-0BE0027D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574D-F7AD-40B3-AF92-C0F6A934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05FAC-7F0E-4373-9147-88F8AAEE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60364-B92B-40BD-A078-FC68148C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1D46B-A217-48F8-ACFB-15B91145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3788E-868E-4A9F-A752-A2AFEB6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0C29B-DCDB-42C7-929A-7101EE2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9BFBF-B187-4E01-B3EF-8E17D8D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1A63A-D39D-4B25-B45D-90A8452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6125-0FBA-4F26-8FAC-74D7521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A4BE0-F4F2-4EFB-ABC6-65761C0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77C-9147-45B8-AE78-2B98ED4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B0F23-F6EC-4790-A9F4-3B1C9E3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6F629-0E65-4126-8F11-D7C5B5E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C4EC1-1091-4530-B2BF-BA7A1772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8ECD-27BA-41A7-B8FB-C64FBF90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7033-6386-4049-9BE9-0F48661E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2EC8B-F6EC-4317-9C38-9F0A2D57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53FB9-5EAC-4AB7-BADC-629E05E0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D0EE4-21A9-4A2D-92CB-550928B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EBC27-9ECA-4A91-96DB-EC81CEF7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6FE39-84E5-46F2-AE7B-E27EC855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216-E03E-46B6-8D57-D760B090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5C107-C2FC-4C37-A0F5-FE23848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525F4-3577-432B-9237-9C80AC2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42BC2-BF22-408F-8A7C-A0BAB44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88F45-A616-402E-BC10-0BF8C38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155E3-E743-4BA3-9EE7-BCC75E9A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B3CC7-4238-4A39-98E9-FD5A0E16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95C74-8E1A-4359-81D6-C1A41BEA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3858E-C263-472F-8431-D9A69FCE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A0D1F-1348-4239-AF88-2FD74D7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C1A92-F9B0-4506-9EE7-85041E00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286D-6084-4429-9B76-E62B92F9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2398E-E197-410B-99DF-F1FF0FC3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B9C83-A60E-4188-AE33-E02EEDD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42DF0-527C-47A7-8F8A-9307DE1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99202-D54C-48F1-9752-23B3E40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05BFE-045A-4F36-952E-3BCB93C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97E1E-655F-426F-9B46-C914FA3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8898E-34C8-463D-9D3B-2D530BC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BA099-9C32-4BD7-85B6-6FB8D26A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47814-FDED-44E6-AA20-0204964F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6E1CE-D7FE-44DE-9F06-FD56B4B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A0C-693F-4258-91BA-F68A205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C5977-FEB0-4280-8559-2632969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1974E-519E-4289-B01C-B82856AA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9BF03-1ED1-4ABD-8E78-E5A383B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F160D-6B0B-48C4-8439-4BB2C3C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6B891-D18F-4A9B-8538-EEEF62C0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6DBCF-8C5E-4D9A-BF25-4CA6B180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3E72F-5B15-4EAE-8E26-C09F13D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F451F-C150-4160-9BF8-94E10DA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0F2D1-D665-4545-BD2F-1D5DF74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F0C56-886B-4FD6-A967-B01E13F1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F31B-70A1-4D25-BB33-05A2D59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E893F-1384-40B7-9AD2-58690778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6AE93-FF7D-43C1-9583-9E6D82F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6AAA3-D9DA-4B69-B6C1-317BD50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76C89-4C2C-4879-9FC3-C077095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AC2BA-1588-449F-AFB9-DE04833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C2324-AA6E-4D75-8030-5FA1A467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53C94-1992-4145-80DD-F311909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1D3B9-0C77-4F1C-84E7-FAF391D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F3679-B7B9-49B7-B529-928DB9F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6F083-24AD-4140-9625-B2427CF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A468-3AFF-45AA-B531-2BE2163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0D9AB-A196-4047-A593-56BFB04E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ED149-2448-4A72-9880-0A141FBA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27C52-2A12-4F26-B127-02DB85F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DA331-17F0-4DB1-839E-11F1EB8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C36A6-221A-494D-8803-358475A3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A0282-2415-4509-A499-A19DD85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C8C6D-94FD-4F68-B607-F6F98A42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5C303-380B-406D-8A97-7F8E245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D3587-1ED3-4043-ACEF-2A41FBB6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7B115-21BB-4C01-9997-3FAABF9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620-2CB1-4E51-ABAC-5564157B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36EB-FE2E-4FBA-ACD4-D01061A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E9ADC-A162-44AE-973E-B5EC6E1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8BFC0-A00E-4C89-8AD1-9EC9920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AB259-1C42-4C62-9CBD-411AE19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65717-E754-4F55-8EDC-85C68A89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CB846-B895-42C2-8D92-02F54FA7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49572-22ED-4D46-9DDA-3592ABB8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2361D-4C61-4122-A505-B6317DB7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155A7-9114-44D1-A72A-CCA0151E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7D14D-DC1F-49F9-9997-FAAAD4E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A7FCE-50EE-410F-A5A0-B0AC4F6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DA16-D7D9-432B-A37B-39F8B95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D8D8E-3010-4600-926E-586405A5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F2C1D-43CA-41DB-96E3-87A1D98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2AF6E-0CE4-4DDD-9FC4-63E5E772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3721D-2468-4B47-A695-DB3C924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E498D-1C82-4933-942B-C3DEB86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94B80-B1FA-46C5-848A-0325C8F4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125A3-E970-43B2-A27F-6C05838F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BA254-9CE9-432A-8BCE-E4A2D052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104BD-29E0-45FB-AF2B-ECB43C5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42984-951A-4CB3-ACE6-1F33008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1A15-3898-44AD-BF4A-519BE8F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2159F-AD54-42B9-80EF-161ABE5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CE9EC-0128-476B-BBA5-9C503DC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B7C0D-7E8B-4ABE-A376-F8A35D8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63EA6-D8E9-4A74-B7AF-172FE2E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F953A-A6BD-4809-AD0B-DA1E083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DADAA-55E4-4685-9603-038E19E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66799-92AD-4DC1-899E-3158B11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BCDC6-153E-468E-BA30-9828F65C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1EBBA-BB98-4D8C-BC36-B7FF136D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CB467-07FB-4548-830D-2AA4036A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1582-B38D-4032-A3B7-699FB34A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20957-AE4B-4BC3-954B-9052616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FCB88-6926-4773-939B-13D7739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AB5DC-6C33-41F4-A72A-9D8BCE7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14C4A-5C06-4689-89FD-1768E2F5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1BCAD-B5E0-4AA3-9F7D-DD27C16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730E1-9887-4730-A5C9-0580E19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5EA06-F7F4-4EA6-AB9E-CA12FE74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E57D1-4503-40FD-B9DB-CF55DB9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4548B-9DAF-4338-8619-FA7ED9FD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45D7A-3579-4F40-8438-4E90C726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3D5-8241-429A-BA7B-126A4A8C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B8D5D-EB1E-4B28-A70C-6597606C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BCCDF-4DD0-4DBA-913E-CBCEACFD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26979-33B3-4873-ADEC-1C2DBC27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02D13-B4A9-414B-A290-217F65F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2660E-9A86-447C-8CFE-C115458C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80C6DE-8755-4050-B8F2-C809D35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2B159-8729-4D44-902A-5DC62D2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9D823-F817-469D-ACDF-BA0CE2A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17579-2D4D-408C-BE58-E4F7962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2C33C-8799-4369-9B97-F78B87E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E85C-7635-4A67-B9FD-64C169FD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8E1D5-C8E9-474A-A9DA-6C6C057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BFBB8-D89B-41D2-A680-EC69AAF3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99299-E851-4EC4-8F9A-66A523D1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9B29-4415-4444-85F8-76A1C49D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A12F-AD8E-4355-A4D7-DAD9991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C0E9-7F3B-456A-AA4B-44AA2D77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5F1E-9FA4-404C-816C-E4622EA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2A8-B95A-4CCF-8D9B-E279F12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4C64-95BC-4CFB-8196-AB1447E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6DD4-6FA3-43C8-A5A3-033ADA1E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8AA6-BC1D-45D4-B9AD-950620AE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037B-2A16-4A41-98F3-6B6BA69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84F-AE32-4C32-8108-0187F23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20B0-95A8-416C-9200-91C538C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970D-E31B-415C-9B31-B5BC52C8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025C-205B-43C3-99CE-24D4429F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56BF-71A3-4C6F-A559-C5C7660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EF85-6DEA-4ADB-8B84-0B4F2D53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132-9B3E-4B91-9309-E0616BE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78AA-9920-4ED9-8FF6-78E48F3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575B-8240-446E-AA59-175A7B6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2D63-378A-45C6-A628-458E739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9A17-3C9D-446F-90F4-FE0684F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0F8C-56B8-4970-A239-7E5FAB6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99341-B668-4A24-BD6A-CA332FE4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5CD1-4ECE-4A97-AA2F-6BE64F0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4326-B888-44C1-9BCC-13CB3F49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4A98-64A5-4EDC-9621-29E9293C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6CF4-FA74-4389-B533-39969C88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4F5-F165-47F3-AC6C-953F818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492C-2AB3-4E9B-8EF0-1DA0753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4E2C1-B01A-49D7-8701-3807709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364F-5BBF-44FD-BD1C-CE045985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B9FF-C1D1-4752-B86A-FE43AA7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458A-37BE-4752-BB83-28DC9B7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B02D-2C0E-4977-BFB0-226E6FD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80A4F-9031-425F-8067-C9A69C3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F64B-B9DE-4356-AA03-DCB868D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4898-9FE1-472B-99BE-8CAC6B9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A458-1A5C-41A5-9B44-7B8871B4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2D9-CE6A-4599-BDA2-6E3DAE6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7688-46E5-4BC1-8984-2B0DD91F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DDDE6-E66A-441C-8A20-6BE669AE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AE022-7DD8-4030-A61E-BBEFFC6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FDFF-8BC8-4F1C-A359-447ACCE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7673-ED3E-482E-BC8B-F2E7844A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99A2-31C4-43F8-8422-7A34123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3948-F251-4BCB-8226-44C66AF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F5C0-C62A-4DBD-B3BF-ABD1AA0F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1E3A3-83C8-4246-B075-21D7AB6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CF97-EF56-406D-96E5-B3D9E61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D95-CB8B-46EB-85E2-C3163EF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B5ED-9716-48EF-B18C-07E9BAF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E907-F448-451C-A8CD-F832C515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A091-8FC5-42C4-A751-1442A922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38E0-E3BB-4EAC-B88F-65C2FED4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C2E4-5657-4EA3-8E20-57574F61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B4B6-4C86-4E92-9B27-EBDB64A9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69351-CE47-46E0-BE3C-13DA2C93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E4E7-73E4-4D50-AE0A-D26A9197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8397-A11D-48B9-82C7-379A6EA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21974-61AA-4326-BAC8-FBBD8E9C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E86-0AC0-42DF-8F4A-76CEACB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B987-A254-41CF-8D9E-D764670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300C1-E575-4142-AB18-7D4F262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DAB1-71B6-4477-9E65-88DC3D36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743C-D1C4-4EC1-A4FC-491F7FBA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6225F-F0F7-4EC0-963B-56106F1A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77FA-1CAD-41CE-B8C6-B5939F68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F55E0-E35C-4E62-958F-36762682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4F34-1D22-474E-A04E-2A921CA3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7BDB-4203-445D-A04D-A13FE64C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16D2-15D3-42AD-A59B-3AF6FEAB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EA6-983E-4A73-9ACE-F9C7C52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9688-5843-4E7A-A2CC-B9FCBB93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7352-8852-42FC-B1B3-D23DB47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53EF-0D6E-48E3-9587-4F9EB7F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F8E59-ABD1-4A8E-90A6-3857C20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7A597-1424-4DB5-86B7-9816F97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A606-EFD4-4AB0-BFC9-A8B161D3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69E1-53F7-4E84-BA7A-E5646492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52FA-7F61-44B3-882B-54A49F62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8C11A-A67D-47A0-B0B9-F23BF04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3BF1-AE54-40B6-BDA5-1BA65B1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A81B-75E1-47F2-89D5-AFDB32AC54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A2D-83E8-4D2D-A2E5-132A49888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392-8EA5-4BCE-92C8-217F7930A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C93-27F4-401F-AE11-298912564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5AA-7431-4DE9-9218-E60E4762C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702-68D0-47C7-B6A2-6AF44240F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962-6D4F-48B2-878B-0361D8B9C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981-7775-4DED-B93C-839428AD51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325-B400-4E06-89A0-A012B2C09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818-E4F8-4F29-B485-1A78935AA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BC04-EA63-4C62-92BB-4ADA39492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C22-AE80-499C-BA3A-467EDC7CB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641-7CC7-44D7-9BE8-10A139D83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FE73-A674-42FB-8BE9-56950DCAC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B4C6-7713-4B90-A09F-0CC167158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65D-94CE-4B87-93F5-529996F0E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4A6-661F-4362-91C7-0C8E3EA01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7F86-FBEA-4B7B-B20B-F5EB227C0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7A88-3334-4650-B729-1E6514171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7BC-55D5-44DB-B90E-4D18E1DA6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DED8-DC0B-4CC2-87F6-ECD887F64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2047-5F21-4370-8E79-BA9273999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54F-EAE4-4102-92C4-9D9A3590B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444-7343-4E4A-A667-E370B84F0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770-4CEE-4761-B664-8F9043724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276-05DB-40AF-9AD5-3C9A348D5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8A4B-7141-4081-8C47-66F9DF556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A6D-7C81-44CD-BCD4-1EB5BCB40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005-A080-45D8-8D3C-4C8A78BAC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E2A-583D-4757-9C1A-D8D735D35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9500-F101-497F-BF46-247D0B135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75E-B25F-4B14-BEED-94F77B61F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8BB-9444-4D3D-9228-C7D025807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C21-0525-41DE-9A03-EC70CCC11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5F0A-5360-42A9-ADA3-6551D81255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E9D-A161-403B-AD67-17AEDB740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3ED-335E-407A-BE22-3996C93DE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C97-9379-4E01-BF0C-5E571B951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9D6-5F55-4CAA-A95E-38BC501EF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DBB-CACC-4948-A998-F99178D73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85760" y="2133720"/>
            <a:ext cx="6972480" cy="809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895480" y="3349800"/>
            <a:ext cx="33530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232416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9634" descr=""/>
          <p:cNvPicPr/>
          <p:nvPr/>
        </p:nvPicPr>
        <p:blipFill>
          <a:blip r:embed="rId2"/>
          <a:stretch/>
        </p:blipFill>
        <p:spPr>
          <a:xfrm>
            <a:off x="318960" y="3576600"/>
            <a:ext cx="8506080" cy="22287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4572000" y="2421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781200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6"/>
          <a:stretch/>
        </p:blipFill>
        <p:spPr>
          <a:xfrm>
            <a:off x="7813800" y="2421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7"/>
          <a:stretch/>
        </p:blipFill>
        <p:spPr>
          <a:xfrm>
            <a:off x="2124000" y="4105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8"/>
          <a:stretch/>
        </p:blipFill>
        <p:spPr>
          <a:xfrm>
            <a:off x="205092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9"/>
          <a:stretch/>
        </p:blipFill>
        <p:spPr>
          <a:xfrm>
            <a:off x="5148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0"/>
          <a:stretch/>
        </p:blipFill>
        <p:spPr>
          <a:xfrm>
            <a:off x="529272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1"/>
          <a:stretch/>
        </p:blipFill>
        <p:spPr>
          <a:xfrm>
            <a:off x="8388360" y="4105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2"/>
          <a:stretch/>
        </p:blipFill>
        <p:spPr>
          <a:xfrm>
            <a:off x="838836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142920" y="577800"/>
            <a:ext cx="8858160" cy="6257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74072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30872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94036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916360" y="501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201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42920" y="1704960"/>
            <a:ext cx="8858160" cy="3448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164360" y="3241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203640" y="3919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8028000" y="3917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84328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667640" y="458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71360" y="757080"/>
            <a:ext cx="8801280" cy="5343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258920" y="2997360"/>
            <a:ext cx="3025800" cy="3311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2513160" y="2319480"/>
            <a:ext cx="20588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6905520" y="2319480"/>
            <a:ext cx="2059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433440" y="1033560"/>
            <a:ext cx="8277120" cy="4790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2736720" cy="2521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473880" y="119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5249880" y="2492280"/>
            <a:ext cx="2851200" cy="3384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473880" y="1844640"/>
            <a:ext cx="21304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128520" y="1557360"/>
            <a:ext cx="8886960" cy="374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308720" y="328464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435640" y="46530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138240" y="1871640"/>
            <a:ext cx="8867520" cy="3114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84360" y="364320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662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23920" y="76320"/>
            <a:ext cx="8696160" cy="6705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900000" y="551664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826920" y="623736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147600" y="804960"/>
            <a:ext cx="8848800" cy="5648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419640" y="256536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5940360" y="2565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3780000" y="335772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6372360" y="3357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4284720" y="41497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6877080" y="4149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6877080" y="5445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4211640" y="5877000"/>
            <a:ext cx="403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1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